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2BAB-83FB-4853-910A-B888AF96C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FC77-7D3C-41D5-9B0B-C005DADFD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095E-1520-4FC2-AA7D-2E849A335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8309-211A-4243-93F0-A5EF80115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D50B-D80E-4752-8DA7-A5065893E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7F01-EAD6-4FDB-A4C8-5ACB6C05A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1054-64F6-422B-ACAE-7CC339B38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2A8F-8750-4E7F-AAEF-361BBC351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C3CE-17B6-40DB-A76B-D9DD279DE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88F5-9D6A-450E-B75B-F9A05C06C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0020-6E80-4D93-8254-0E16E923A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C0B9-0EB3-494E-AF4C-01502BF84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BEB0B-4F42-43AE-896C-EA85C88A36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aily Fix-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2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ould the bowt flote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5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225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Where can I find a boal.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5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701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ily Fix-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Sally likes writing leters.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7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6700" spc="-1" strike="noStrike">
                <a:solidFill>
                  <a:srgbClr val="333399"/>
                </a:solidFill>
                <a:latin typeface="Arial"/>
              </a:rPr>
              <a:t>Sally likes writing letters.</a:t>
            </a: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10. Brad never write bak.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6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6600" spc="-1" strike="noStrike">
                <a:solidFill>
                  <a:srgbClr val="333399"/>
                </a:solidFill>
                <a:latin typeface="Arial"/>
              </a:rPr>
              <a:t>Brad never writes back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aily Fix-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2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ould the bowt flote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5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1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6100" spc="-1" strike="noStrike">
                <a:solidFill>
                  <a:srgbClr val="333399"/>
                </a:solidFill>
                <a:latin typeface="Arial"/>
              </a:rPr>
              <a:t>Could the boat float?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225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Where can I find a boal.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5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1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6100" spc="-1" strike="noStrike">
                <a:solidFill>
                  <a:srgbClr val="333399"/>
                </a:solidFill>
                <a:latin typeface="Arial"/>
              </a:rPr>
              <a:t>Where can I find a bowl?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ily Fix-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3.  Did Alan finds the mailbox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Jo mail some letters she writ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aily Fix-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  Did Alan finds the mailbox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6000" spc="-1" strike="noStrike">
                <a:solidFill>
                  <a:srgbClr val="333399"/>
                </a:solidFill>
                <a:latin typeface="Arial"/>
              </a:rPr>
              <a:t>Did Alan find the mailbox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 mail some letters she writ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6600" spc="-1" strike="noStrike">
                <a:solidFill>
                  <a:srgbClr val="333399"/>
                </a:solidFill>
                <a:latin typeface="Arial"/>
              </a:rPr>
              <a:t>Jo mails some letters she wrote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51920" y="0"/>
            <a:ext cx="89917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aily Fix-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I got the leter a week agow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I opened itt right away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151920" y="0"/>
            <a:ext cx="89917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aily Fix-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 got the leter a week agow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6600" spc="-1" strike="noStrike">
                <a:solidFill>
                  <a:srgbClr val="333399"/>
                </a:solidFill>
                <a:latin typeface="Arial"/>
              </a:rPr>
              <a:t>I got the letter a week ago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 opened itt right away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6600" spc="-1" strike="noStrike">
                <a:solidFill>
                  <a:srgbClr val="333399"/>
                </a:solidFill>
                <a:latin typeface="Arial"/>
              </a:rPr>
              <a:t>I opened it right away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151920" y="-360"/>
            <a:ext cx="8991720" cy="701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aily Fix-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7.  Shee likes to visit her Grandma.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8.  She show her noo things.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8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3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51920" y="-360"/>
            <a:ext cx="8991720" cy="701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aily Fix-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7.  Shee likes to visit her Grandma.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6700" spc="-1" strike="noStrike">
                <a:solidFill>
                  <a:srgbClr val="333399"/>
                </a:solidFill>
                <a:latin typeface="Arial"/>
              </a:rPr>
              <a:t>She likes to visit her grandma.</a:t>
            </a:r>
            <a:r>
              <a:rPr b="1" lang="en-US" sz="67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8.  She show her noo things.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7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6700" spc="-1" strike="noStrike">
                <a:solidFill>
                  <a:srgbClr val="333399"/>
                </a:solidFill>
                <a:latin typeface="Arial"/>
              </a:rPr>
              <a:t>She shows her new things.</a:t>
            </a: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701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ily Fix-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75"/>
              </a:spcBef>
              <a:buClr>
                <a:srgbClr val="000000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Sally likes writing leters.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10. Brad never write bak.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66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5T13:12:04Z</dcterms:created>
  <dc:creator> </dc:creator>
  <dc:description/>
  <dc:language>en-US</dc:language>
  <cp:lastModifiedBy>teacher</cp:lastModifiedBy>
  <dcterms:modified xsi:type="dcterms:W3CDTF">2010-11-06T19:37:00Z</dcterms:modified>
  <cp:revision>39</cp:revision>
  <dc:subject/>
  <dc:title>Slide 1</dc:title>
</cp:coreProperties>
</file>